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04BD-A52C-4BF3-80B4-BC35EC295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8AF9-3B80-4124-88E4-8850BB781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8917-0C9E-43AB-8641-288712CCB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70CA-5E9D-43F3-A131-A702184EB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0157-BFF4-4C03-8180-AD1D74AAE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31D5-B51E-4043-96BE-43F6E1AAB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90F0-B807-4F77-8500-AD163E1AA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8553-DA5D-4111-842D-8D6348D86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8CF8-C52D-4873-8E6B-26FEDD3FF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6DEA-8299-44C7-9D3D-0216623E3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C14F-00E0-4896-8D20-1C9CB48A1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CA89-636C-464C-9A52-789A1F1F7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2EE7-68D6-4C0C-8788-4DECB6910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AA26-812A-44DE-A3EE-D6DD70137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3765-1CF8-4111-BA90-75580A346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54AF-4C31-4B07-B92B-834B4CC9D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52CC-25DE-4FBB-BD7B-2FE36D4E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4DC9-9E57-4398-9DDB-9BB4ED65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A160-362D-43DC-B8FF-F7A6E7E6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C89C-B657-423F-BEFB-6C4621C7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648E-AA0B-4B15-9ED2-5BE901BB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9340-C258-4617-A39A-F56BB9F7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8E91-62D7-4E2F-B05E-168ED3D2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3FF7-9CC1-481E-BA43-7B27138C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1E12-36A6-4DCA-9892-60DAD6A9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C88C-80FA-4EE5-9E93-6777A5FB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F952-68EF-482B-8E34-C0A36CEE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EA06-4BDF-4401-A73B-38695687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B77F-888A-426B-B35D-43C140F7E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ruent Tri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Screen shot 2010-12-05 at 2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Screen shot 2010-12-13 at 8"/>
          <p:cNvPicPr/>
          <p:nvPr/>
        </p:nvPicPr>
        <p:blipFill>
          <a:blip r:embed="rId1"/>
          <a:stretch/>
        </p:blipFill>
        <p:spPr>
          <a:xfrm>
            <a:off x="0" y="231840"/>
            <a:ext cx="9144000" cy="62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Screen shot 2010-12-05 at 2"/>
          <p:cNvPicPr/>
          <p:nvPr/>
        </p:nvPicPr>
        <p:blipFill>
          <a:blip r:embed="rId1"/>
          <a:stretch/>
        </p:blipFill>
        <p:spPr>
          <a:xfrm>
            <a:off x="0" y="1231920"/>
            <a:ext cx="91440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Screen shot 2010-12-13 at 8"/>
          <p:cNvPicPr/>
          <p:nvPr/>
        </p:nvPicPr>
        <p:blipFill>
          <a:blip r:embed="rId1"/>
          <a:stretch/>
        </p:blipFill>
        <p:spPr>
          <a:xfrm>
            <a:off x="0" y="1174680"/>
            <a:ext cx="914400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Screen shot 2010-12-05 at 2"/>
          <p:cNvPicPr/>
          <p:nvPr/>
        </p:nvPicPr>
        <p:blipFill>
          <a:blip r:embed="rId1"/>
          <a:stretch/>
        </p:blipFill>
        <p:spPr>
          <a:xfrm>
            <a:off x="0" y="412920"/>
            <a:ext cx="91440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Screen shot 2010-12-13 at 8"/>
          <p:cNvPicPr/>
          <p:nvPr/>
        </p:nvPicPr>
        <p:blipFill>
          <a:blip r:embed="rId1"/>
          <a:stretch/>
        </p:blipFill>
        <p:spPr>
          <a:xfrm>
            <a:off x="533520" y="304920"/>
            <a:ext cx="861048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Screen shot 2010-12-05 at 2"/>
          <p:cNvPicPr/>
          <p:nvPr/>
        </p:nvPicPr>
        <p:blipFill>
          <a:blip r:embed="rId1"/>
          <a:stretch/>
        </p:blipFill>
        <p:spPr>
          <a:xfrm>
            <a:off x="0" y="44136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Screen shot 2010-12-13 at 8"/>
          <p:cNvPicPr/>
          <p:nvPr/>
        </p:nvPicPr>
        <p:blipFill>
          <a:blip r:embed="rId1"/>
          <a:stretch/>
        </p:blipFill>
        <p:spPr>
          <a:xfrm>
            <a:off x="0" y="811080"/>
            <a:ext cx="914400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Screen shot 2010-12-05 at 2"/>
          <p:cNvPicPr/>
          <p:nvPr/>
        </p:nvPicPr>
        <p:blipFill>
          <a:blip r:embed="rId1"/>
          <a:stretch/>
        </p:blipFill>
        <p:spPr>
          <a:xfrm>
            <a:off x="685800" y="1806480"/>
            <a:ext cx="777240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Screen shot 2010-12-05 at 2"/>
          <p:cNvPicPr/>
          <p:nvPr/>
        </p:nvPicPr>
        <p:blipFill>
          <a:blip r:embed="rId1"/>
          <a:stretch/>
        </p:blipFill>
        <p:spPr>
          <a:xfrm>
            <a:off x="1633680" y="609480"/>
            <a:ext cx="5876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ru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figures are congruent if they have exactly the same size and sha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Screen shot 2010-12-05 at 2"/>
          <p:cNvPicPr/>
          <p:nvPr/>
        </p:nvPicPr>
        <p:blipFill>
          <a:blip r:embed="rId1"/>
          <a:stretch/>
        </p:blipFill>
        <p:spPr>
          <a:xfrm>
            <a:off x="1944720" y="609480"/>
            <a:ext cx="5254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Screen shot 2010-12-05 at 2"/>
          <p:cNvPicPr/>
          <p:nvPr/>
        </p:nvPicPr>
        <p:blipFill>
          <a:blip r:embed="rId1"/>
          <a:stretch/>
        </p:blipFill>
        <p:spPr>
          <a:xfrm>
            <a:off x="779400" y="609480"/>
            <a:ext cx="758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sponding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wo figures are congruent, the corresponding angles are the angles that are in corresponding positions and are congrue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sponding S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wo figures are congruent, the corresponding sides are the sides that are in corresponding positions and are congru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Screen shot 2010-12-05 at 2"/>
          <p:cNvPicPr/>
          <p:nvPr/>
        </p:nvPicPr>
        <p:blipFill>
          <a:blip r:embed="rId1"/>
          <a:stretch/>
        </p:blipFill>
        <p:spPr>
          <a:xfrm>
            <a:off x="0" y="668160"/>
            <a:ext cx="914400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Screen shot 2010-12-05 at 2"/>
          <p:cNvPicPr/>
          <p:nvPr/>
        </p:nvPicPr>
        <p:blipFill>
          <a:blip r:embed="rId1"/>
          <a:stretch/>
        </p:blipFill>
        <p:spPr>
          <a:xfrm>
            <a:off x="0" y="1798560"/>
            <a:ext cx="91440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Screen shot 2010-12-13 at 8"/>
          <p:cNvPicPr/>
          <p:nvPr/>
        </p:nvPicPr>
        <p:blipFill>
          <a:blip r:embed="rId1"/>
          <a:stretch/>
        </p:blipFill>
        <p:spPr>
          <a:xfrm>
            <a:off x="0" y="1417680"/>
            <a:ext cx="914400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Screen shot 2010-12-05 at 2"/>
          <p:cNvPicPr/>
          <p:nvPr/>
        </p:nvPicPr>
        <p:blipFill>
          <a:blip r:embed="rId1"/>
          <a:stretch/>
        </p:blipFill>
        <p:spPr>
          <a:xfrm>
            <a:off x="0" y="56664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Screen shot 2010-12-13 at 8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9:18:58Z</dcterms:created>
  <dc:creator>Parkland High School</dc:creator>
  <dc:description/>
  <dc:language>en-US</dc:language>
  <cp:lastModifiedBy>test</cp:lastModifiedBy>
  <dcterms:modified xsi:type="dcterms:W3CDTF">2014-10-30T16:31:44Z</dcterms:modified>
  <cp:revision>2</cp:revision>
  <dc:subject/>
  <dc:title>4.2</dc:title>
</cp:coreProperties>
</file>